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0A2-9E11-4AE9-BC26-98C8860C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5B01-EA83-4966-8BE3-0AB2EBEF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E04-229D-4082-9E84-D4A90F26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28B9-2CB4-4A8A-B15B-81260D9D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908-FA33-409C-9D01-C775BF97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0353-72A3-4B37-B05B-44C8850A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E749-34C0-4A74-B6ED-8C5C292A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02D-1E41-4F8A-9F21-2105CC6A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713-3B0C-4B7D-A4BB-3B46ACC6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4FF-A58E-4357-B5D1-08F16247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3E9E-269B-4B85-B99D-3B91C7F1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551-12F1-424B-B8DF-A78D3DB4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A49D-ED35-4DE8-AE2D-058DD7F160A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5A84-C9F4-4554-B101-328F50789AD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فعالية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كموصل جيد للمعلو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81200" y="2809800"/>
          <a:ext cx="777240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809800"/>
                    <a:ext cx="777240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6224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417C-150F-4C27-8DDE-0EBF5EFCDECF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2311560"/>
          <a:ext cx="8353440" cy="83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11560"/>
                    <a:ext cx="8353440" cy="83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018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0D6-03EE-4D11-85D2-FB71AD804C8D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2434320"/>
            <a:ext cx="7534800" cy="30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شمولية (الحد الأدنى من المعلومات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اعتماد المستفيدين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قراءة كل جزء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فهم محتويا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ؤشرات فعالية التقارير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A6B-E9F9-4D01-B0F0-305BFA4C1F77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4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 (العرض والافصا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de7b1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ا هو الافصاح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معلومات المهمة للمستفيدين من التقارير المالية بطريقة تساعد على التنبؤ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و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قوائم المالية بكل وضوح طبقا للمبادئ المحاسبية المتعا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539-57F4-4324-A7D6-92EB1EB10E8A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ية العرض والإفص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حقق عدد من المزاي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مداد المستفيدين بالمعلومات عن المنشأة أو المشروع وبالتالي ترشيد عملية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ام الموارد الاقتصادية المتاحة بكفاءة وفعالية، بمعنى آخر يساعد على تخصيص وإعادة تخصيص الموارد بين المنشآت ال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D0A1-4BAD-4F5B-AD3B-632FC344D6D2}" type="slidenum">
              <a:t>4</a:t>
            </a:fld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36200"/>
            <a:ext cx="7772760" cy="835200"/>
          </a:xfrm>
          <a:prstGeom prst="rect">
            <a:avLst/>
          </a:prstGeom>
          <a:solidFill>
            <a:srgbClr val="fde7b1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افص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7640" y="2185200"/>
            <a:ext cx="2182320" cy="96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8680" y="2257920"/>
            <a:ext cx="1960920" cy="89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0360" y="3971880"/>
            <a:ext cx="2514600" cy="212112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قتص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ي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انونية (قوانين الشركات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997440"/>
            <a:ext cx="2514600" cy="209556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لائمة المعلومات لاتخاذ القرارات (خصائص المعلومات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4016520"/>
            <a:ext cx="2590560" cy="207648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جم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داول الاس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3480" y="2133720"/>
            <a:ext cx="22860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206880"/>
            <a:ext cx="646200" cy="72684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3720" y="3213000"/>
            <a:ext cx="601920" cy="792360"/>
          </a:xfrm>
          <a:prstGeom prst="downArrow">
            <a:avLst>
              <a:gd name="adj1" fmla="val 50000"/>
              <a:gd name="adj2" fmla="val 3291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2080" y="3213000"/>
            <a:ext cx="601560" cy="792360"/>
          </a:xfrm>
          <a:prstGeom prst="downArrow">
            <a:avLst>
              <a:gd name="adj1" fmla="val 50000"/>
              <a:gd name="adj2" fmla="val 32929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392-EE1B-4CE6-B1F1-F77EA06B412D}" type="slidenum">
              <a:t>5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920" y="1819440"/>
          <a:ext cx="9304200" cy="83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819440"/>
                    <a:ext cx="930420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19920" y="63849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75C-D2B9-4B6B-A65A-5081848BE6CE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6560" y="2860560"/>
          <a:ext cx="8498160" cy="80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860560"/>
                    <a:ext cx="8498160" cy="80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3496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577C-8765-4559-9258-87E1A6CDD81F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00400"/>
          <a:ext cx="8424720" cy="84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0400"/>
                    <a:ext cx="8424720" cy="84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8E9-1D33-4934-9344-B1E73C4AF165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2133720"/>
          <a:ext cx="8136000" cy="83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83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A54-B9DA-444E-9A61-25F448A08337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3:05:20Z</dcterms:modified>
  <cp:revision>28</cp:revision>
  <dc:subject/>
  <dc:title>التحليل المالي والائتماني</dc:title>
</cp:coreProperties>
</file>